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13.jpeg" ContentType="image/jpeg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874250" cy="7408863"/>
  <p:notesSz cx="9874250" cy="7408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8FC-068F-4D8C-9C6B-5F6EF331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110-6002-479F-A33F-29B33AA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60B-91B4-4C97-85BB-0AA798C1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227-5A87-45F9-91BE-F772E495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C58-B0CA-4747-8CDC-931DC8C0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00F-321A-40F0-BC12-3B193C8B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C20-7217-41E4-88E9-11CC7A74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7EA-F912-418C-8D95-9FDE79A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F7E-97F1-40B0-BBAB-198B8348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BA5-0A8C-4E66-95F5-BEE71A8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2D0-775A-4EA4-A802-7F70F2D4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AD0-AED5-4990-A52A-25F7429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6B95D935-0CE6-4D4E-B2CC-B4C07DA6D11E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2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914400"/>
            <a:ext cx="44402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Impr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4599000" cy="26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32720" y="62870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zione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320" y="0"/>
            <a:ext cx="9448200" cy="7252920"/>
            <a:chOff x="76320" y="0"/>
            <a:chExt cx="9448200" cy="7252920"/>
          </a:xfrm>
        </p:grpSpPr>
        <p:pic>
          <p:nvPicPr>
            <p:cNvPr id="4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5708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3636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6680" y="563760"/>
              <a:ext cx="856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400280" y="80640"/>
              <a:ext cx="512424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13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2280" y="4143600"/>
            <a:ext cx="82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perimenti di trasferimento dei pronuclei nei to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5360" y="4753080"/>
            <a:ext cx="86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rti triploidi, mola idatiforme e teratomi ne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720" y="5362920"/>
            <a:ext cx="36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omie unipar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760" y="6064560"/>
            <a:ext cx="84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e espressione del DNA nel topo trans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363040"/>
            <a:ext cx="88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Mutazioni che provocano fenotipi differenti a seco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del genitore d’origine o che semb rano essere ered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con modalita’ diverse a seconda del genitor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trasmette il l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sservazioni che suggeriscono l’esistenza dell’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320" y="0"/>
            <a:ext cx="9702360" cy="7203960"/>
            <a:chOff x="76320" y="0"/>
            <a:chExt cx="9702360" cy="7203960"/>
          </a:xfrm>
        </p:grpSpPr>
        <p:pic>
          <p:nvPicPr>
            <p:cNvPr id="1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120" y="55980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516560" y="79920"/>
              <a:ext cx="52621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1460160"/>
            <a:ext cx="929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mprinting e’ una forma di regolazione genica,che si esprime attraverso meccanismi epigenetici che si attuano nel corso dello sviluppo e della vita dell’organ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7120" y="4849200"/>
            <a:ext cx="85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sogna ricordare che gli attori di questa 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o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5900760"/>
            <a:ext cx="59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locus su cui l’imprinting agis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5080" y="6510240"/>
            <a:ext cx="57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locus che ha questa capac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e qua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" y="2693880"/>
            <a:ext cx="9372600" cy="2043720"/>
            <a:chOff x="228600" y="2693880"/>
            <a:chExt cx="9372600" cy="2043720"/>
          </a:xfrm>
        </p:grpSpPr>
        <p:sp>
          <p:nvSpPr>
            <p:cNvPr id="163" name=""/>
            <p:cNvSpPr/>
            <p:nvPr/>
          </p:nvSpPr>
          <p:spPr>
            <a:xfrm>
              <a:off x="1219320" y="2693880"/>
              <a:ext cx="83818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ome e quando i genomi parentali vengono       “marcati” per consentire ai meccanismi di regolazione di selezionare i diversi alleli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28600" y="3276720"/>
              <a:ext cx="9144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76320" y="0"/>
            <a:ext cx="9689760" cy="7203960"/>
            <a:chOff x="76320" y="0"/>
            <a:chExt cx="9689760" cy="7203960"/>
          </a:xfrm>
        </p:grpSpPr>
        <p:pic>
          <p:nvPicPr>
            <p:cNvPr id="16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65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9871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5400" y="559800"/>
              <a:ext cx="8786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510800" y="79920"/>
              <a:ext cx="52552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33360" y="1862280"/>
            <a:ext cx="80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 e’ un cambiamen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ermanen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240" y="2700360"/>
            <a:ext cx="91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 essere abolito prima di trasmettere il gen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520" y="3648960"/>
            <a:ext cx="86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 essere ripristinato coerentemente al s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l’individuo che trasm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6120" y="5055120"/>
            <a:ext cx="89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 questa nuova “etichettatura” agiscono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ccanismi di regolazione genica secondo i patte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sti per cellule, tessuti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e qua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320" y="0"/>
            <a:ext cx="9702360" cy="7203960"/>
            <a:chOff x="76320" y="0"/>
            <a:chExt cx="9702360" cy="7203960"/>
          </a:xfrm>
        </p:grpSpPr>
        <p:pic>
          <p:nvPicPr>
            <p:cNvPr id="17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120" y="55980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516560" y="79920"/>
              <a:ext cx="52621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70400" y="4030200"/>
            <a:ext cx="753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:  ritardo mentale, ipotonia, obesita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ogenitalismo maschile. 1: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269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dromi neurologiche distinte. Mappano in 15q11-13 e sono sottoposte ad imprinting diff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596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: ritardo mentale, alterazioni del linguaggio, ritardo di crescita, iperattivita’, ilarita’ inappropriata. 1: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57600" y="914040"/>
            <a:ext cx="527832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rader-Willi/Ange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29600" y="685800"/>
            <a:ext cx="1165320" cy="182736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76320" y="0"/>
            <a:ext cx="9664200" cy="7203960"/>
            <a:chOff x="76320" y="0"/>
            <a:chExt cx="9664200" cy="7203960"/>
          </a:xfrm>
        </p:grpSpPr>
        <p:pic>
          <p:nvPicPr>
            <p:cNvPr id="18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4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9824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3240" y="55980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498920" y="79920"/>
              <a:ext cx="52416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96040" y="1176480"/>
            <a:ext cx="72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e sindromi hanno eziologia varia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569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I (anche citogeneticamente evidenti): circa il 75% in entramb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1917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OMIA UNIPARENTALE: circa il 20% PW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o del 3% in  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6520" y="4334760"/>
            <a:ext cx="875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AZIONI PUNTIFORMI: non riscontate in P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a il 15% in AS (UBE3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558828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I DI  IMPRINTING: circa  2% in PWS, 15% AS. Entrambi i cromosomi hanno lo stesso pattern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ilazione pur derivando da entrambi i genito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355320"/>
            <a:ext cx="5050080" cy="78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ziologia PWS/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320" y="0"/>
            <a:ext cx="9727560" cy="7203960"/>
            <a:chOff x="76320" y="0"/>
            <a:chExt cx="9727560" cy="7203960"/>
          </a:xfrm>
        </p:grpSpPr>
        <p:pic>
          <p:nvPicPr>
            <p:cNvPr id="2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94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9950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8280" y="559800"/>
              <a:ext cx="882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4528080" y="79920"/>
              <a:ext cx="52758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60200" y="1711080"/>
            <a:ext cx="9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ZIONI (anche citogeneticamente evidenti): circa il 75% in entram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2168280"/>
            <a:ext cx="9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OMIA UNIPARENTALE: circa il 20% PWS, meno del 3% in  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000" y="3039480"/>
            <a:ext cx="92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 : delezioni sul cromosoma paterno e diso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8880" y="43347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: delezioni sul cromosoma materno e disom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5400" y="5824440"/>
            <a:ext cx="94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elezione piu’ frequente in entrambi coinvolge 4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ziologia citogen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6320" y="0"/>
            <a:ext cx="9702360" cy="7130520"/>
            <a:chOff x="76320" y="0"/>
            <a:chExt cx="9702360" cy="7130520"/>
          </a:xfrm>
        </p:grpSpPr>
        <p:pic>
          <p:nvPicPr>
            <p:cNvPr id="21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990360" y="1216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6120" y="55404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4516560" y="79200"/>
              <a:ext cx="5262120" cy="40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4920" y="6884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8720" y="1877400"/>
            <a:ext cx="92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elezione piu’ frequente in entrambe coinvolge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sse 4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886200"/>
            <a:ext cx="5181840" cy="3808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3886200"/>
            <a:ext cx="30456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3886200"/>
            <a:ext cx="30456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962520"/>
            <a:ext cx="11430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4680" y="3962520"/>
            <a:ext cx="11430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3124080"/>
            <a:ext cx="381240" cy="1143000"/>
          </a:xfrm>
          <a:prstGeom prst="lightningBol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3124080"/>
            <a:ext cx="380880" cy="1143000"/>
          </a:xfrm>
          <a:prstGeom prst="lightningBol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4194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212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4207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6600" y="4212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401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rissime famiglie presentano ricorrenza di AS senza delezione visi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lezione: do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320" y="0"/>
            <a:ext cx="9639000" cy="7203960"/>
            <a:chOff x="76320" y="0"/>
            <a:chExt cx="9639000" cy="7203960"/>
          </a:xfrm>
        </p:grpSpPr>
        <p:pic>
          <p:nvPicPr>
            <p:cNvPr id="2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25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9759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1440" y="559800"/>
              <a:ext cx="8740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4487400" y="79920"/>
              <a:ext cx="52279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560" y="1896480"/>
            <a:ext cx="91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rissime famiglie presentano ricorrenza di AS s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e visi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302280"/>
            <a:ext cx="86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 di queste ha permesso di chiarire che i due locus PWS/AS sono diversi e di definire la regione minima di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954880" y="4875120"/>
            <a:ext cx="3812760" cy="2136240"/>
            <a:chOff x="2954880" y="4875120"/>
            <a:chExt cx="3812760" cy="2136240"/>
          </a:xfrm>
        </p:grpSpPr>
        <p:sp>
          <p:nvSpPr>
            <p:cNvPr id="244" name=""/>
            <p:cNvSpPr/>
            <p:nvPr/>
          </p:nvSpPr>
          <p:spPr>
            <a:xfrm>
              <a:off x="4659480" y="4898520"/>
              <a:ext cx="9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l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954880" y="4875120"/>
              <a:ext cx="3812760" cy="2136240"/>
              <a:chOff x="2954880" y="4875120"/>
              <a:chExt cx="3812760" cy="2136240"/>
            </a:xfrm>
          </p:grpSpPr>
          <p:sp>
            <p:nvSpPr>
              <p:cNvPr id="246" name=""/>
              <p:cNvSpPr/>
              <p:nvPr/>
            </p:nvSpPr>
            <p:spPr>
              <a:xfrm>
                <a:off x="5345280" y="6246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78240" y="6246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11560" y="624672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700000">
                <a:off x="4075200" y="6551640"/>
                <a:ext cx="38088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700000">
                <a:off x="5141880" y="6551640"/>
                <a:ext cx="38088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700000">
                <a:off x="3033720" y="6551640"/>
                <a:ext cx="38088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87800" y="5560920"/>
                <a:ext cx="380880" cy="381240"/>
              </a:xfrm>
              <a:prstGeom prst="ellipse">
                <a:avLst/>
              </a:prstGeom>
              <a:solidFill>
                <a:srgbClr val="ef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87800" y="4875120"/>
                <a:ext cx="380880" cy="381240"/>
              </a:xfrm>
              <a:prstGeom prst="rect">
                <a:avLst/>
              </a:prstGeom>
              <a:solidFill>
                <a:srgbClr val="efff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78240" y="5256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90840" y="59421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11560" y="6246720"/>
                <a:ext cx="213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06840" y="5584320"/>
                <a:ext cx="93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ele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20920" y="649872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ele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988360" y="6498720"/>
                <a:ext cx="2566440" cy="411480"/>
                <a:chOff x="2988360" y="6498720"/>
                <a:chExt cx="2566440" cy="411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988360" y="6511320"/>
                  <a:ext cx="48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004280" y="6498720"/>
                  <a:ext cx="48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070960" y="6498720"/>
                  <a:ext cx="48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gelman non dele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6320" y="0"/>
            <a:ext cx="9676800" cy="7130520"/>
            <a:chOff x="76320" y="0"/>
            <a:chExt cx="9676800" cy="7130520"/>
          </a:xfrm>
        </p:grpSpPr>
        <p:pic>
          <p:nvPicPr>
            <p:cNvPr id="26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5440" cy="8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983520" y="12168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4320" y="554040"/>
              <a:ext cx="877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504680" y="79200"/>
              <a:ext cx="5248440" cy="40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4560" y="6884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1240200"/>
            <a:ext cx="93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1992 viene riportata un’altra famiglia AS in cui viene documentata l’assenza di delezioni anche nella regione minima e che porta ad escludere la presenza di mutazioni puntiformi recessive nell’eziologia di 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609480"/>
            <a:ext cx="8393400" cy="673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gelman famil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233856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3856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430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4496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0708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245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9661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5256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672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3429000"/>
            <a:ext cx="228600" cy="228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620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358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008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345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53280" y="34290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4640" y="36025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15S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6640" y="40071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52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244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73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719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8620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769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57840" y="401004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1604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70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600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240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24960" y="4003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51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597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708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17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26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5388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204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2438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743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161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5296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0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06768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3048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04812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2304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57440" y="29718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3276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9436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94360" y="3276720"/>
            <a:ext cx="939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08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70880" y="3276720"/>
            <a:ext cx="93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702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578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244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5516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104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9640" y="49060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B3(CA)-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91760" y="531036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20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84760" y="5308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24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94240" y="53118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02760" y="53118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920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73320" y="5313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8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921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79760" y="53118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7880" y="53089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40080" y="53071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702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752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594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068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8812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690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9355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8640" y="62776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A5(CA)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93560" y="668196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2252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84760" y="66805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842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89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08520" y="66834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938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75120" y="66852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01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939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797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9680" y="668052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40080" y="66787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0280" y="66834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770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61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06160" y="6683400"/>
            <a:ext cx="31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8920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708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9373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6320" y="0"/>
            <a:ext cx="9664200" cy="7203960"/>
            <a:chOff x="76320" y="0"/>
            <a:chExt cx="9664200" cy="7203960"/>
          </a:xfrm>
        </p:grpSpPr>
        <p:pic>
          <p:nvPicPr>
            <p:cNvPr id="3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9824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3240" y="55980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4498920" y="79920"/>
              <a:ext cx="52416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potesi di organizzazione della reg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1444680"/>
            <a:ext cx="190440" cy="1141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48040" y="1501920"/>
            <a:ext cx="2095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05240" y="138744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1368360"/>
            <a:ext cx="266760" cy="26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1368360"/>
            <a:ext cx="266760" cy="266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1825560"/>
            <a:ext cx="190440" cy="11448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48040" y="1882800"/>
            <a:ext cx="2095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05240" y="176832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1749600"/>
            <a:ext cx="266760" cy="266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1749600"/>
            <a:ext cx="266760" cy="266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24280" y="1243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2160" y="1644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9560" y="17812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19400" y="181152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42920" y="2552760"/>
            <a:ext cx="9458280" cy="982440"/>
            <a:chOff x="142920" y="2552760"/>
            <a:chExt cx="9458280" cy="982440"/>
          </a:xfrm>
        </p:grpSpPr>
        <p:sp>
          <p:nvSpPr>
            <p:cNvPr id="408" name=""/>
            <p:cNvSpPr/>
            <p:nvPr/>
          </p:nvSpPr>
          <p:spPr>
            <a:xfrm>
              <a:off x="876240" y="275436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66680" y="2811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6240" y="313524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66680" y="319248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23880" y="307800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9240" y="3059280"/>
              <a:ext cx="266760" cy="2664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52760" y="3059280"/>
              <a:ext cx="266760" cy="2664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2920" y="255276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0800" y="29545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67560" y="276228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0" y="281952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15200" y="270504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10560" y="268596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44080" y="2685960"/>
              <a:ext cx="266400" cy="2667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34240" y="256104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82120" y="29624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48240" y="272592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66880" y="2811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67560" y="317340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0" y="3230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58200" y="3230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2280" y="3535200"/>
              <a:ext cx="9448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52280" y="3716640"/>
            <a:ext cx="9448920" cy="1114200"/>
            <a:chOff x="152280" y="3716640"/>
            <a:chExt cx="9448920" cy="1114200"/>
          </a:xfrm>
        </p:grpSpPr>
        <p:sp>
          <p:nvSpPr>
            <p:cNvPr id="431" name=""/>
            <p:cNvSpPr/>
            <p:nvPr/>
          </p:nvSpPr>
          <p:spPr>
            <a:xfrm>
              <a:off x="3547080" y="3959640"/>
              <a:ext cx="2142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ISOM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UNIPAREN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8840" y="3922560"/>
              <a:ext cx="19080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9640" y="3979800"/>
              <a:ext cx="2095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36840" y="386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31840" y="384660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65360" y="3846600"/>
              <a:ext cx="266760" cy="26676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3760" y="37418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98560" y="437976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89000" y="4437000"/>
              <a:ext cx="2095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46200" y="432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41560" y="430380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75080" y="4303800"/>
              <a:ext cx="266400" cy="26676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3120" y="41990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67560" y="391788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0" y="397512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386064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10560" y="3841920"/>
              <a:ext cx="266760" cy="26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44080" y="3841920"/>
              <a:ext cx="266400" cy="2664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34240" y="371664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67560" y="439092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58000" y="444816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15200" y="433404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10560" y="4314960"/>
              <a:ext cx="266760" cy="26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44080" y="4314960"/>
              <a:ext cx="266400" cy="26640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34240" y="418968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280" y="4830840"/>
              <a:ext cx="9448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42920" y="5011920"/>
            <a:ext cx="9458280" cy="1083960"/>
            <a:chOff x="142920" y="5011920"/>
            <a:chExt cx="9458280" cy="1083960"/>
          </a:xfrm>
        </p:grpSpPr>
        <p:sp>
          <p:nvSpPr>
            <p:cNvPr id="458" name=""/>
            <p:cNvSpPr/>
            <p:nvPr/>
          </p:nvSpPr>
          <p:spPr>
            <a:xfrm>
              <a:off x="876240" y="521352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6680" y="527040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6240" y="559440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66680" y="5651640"/>
              <a:ext cx="2095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553716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5518080"/>
              <a:ext cx="26676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5518080"/>
              <a:ext cx="266760" cy="2667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2920" y="501192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800" y="54136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66880" y="5270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23880" y="5160960"/>
              <a:ext cx="228600" cy="228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98760" y="5094720"/>
              <a:ext cx="2654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UBMICROSCOP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2280" y="6095880"/>
              <a:ext cx="9448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41560" y="6201000"/>
            <a:ext cx="5447160" cy="861480"/>
            <a:chOff x="241560" y="6201000"/>
            <a:chExt cx="5447160" cy="861480"/>
          </a:xfrm>
        </p:grpSpPr>
        <p:sp>
          <p:nvSpPr>
            <p:cNvPr id="472" name=""/>
            <p:cNvSpPr/>
            <p:nvPr/>
          </p:nvSpPr>
          <p:spPr>
            <a:xfrm>
              <a:off x="974880" y="6402240"/>
              <a:ext cx="190440" cy="114480"/>
            </a:xfrm>
            <a:prstGeom prst="octagon">
              <a:avLst>
                <a:gd name="adj" fmla="val 29287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65320" y="6459480"/>
              <a:ext cx="2095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2520" y="634536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17880" y="6326280"/>
              <a:ext cx="266400" cy="266760"/>
            </a:xfrm>
            <a:prstGeom prst="triangle">
              <a:avLst>
                <a:gd name="adj" fmla="val 50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51040" y="6326280"/>
              <a:ext cx="266760" cy="26676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74880" y="6783480"/>
              <a:ext cx="190440" cy="114120"/>
            </a:xfrm>
            <a:prstGeom prst="octagon">
              <a:avLst>
                <a:gd name="adj" fmla="val 29287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65320" y="6840360"/>
              <a:ext cx="2095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22520" y="6726240"/>
              <a:ext cx="2286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17880" y="6707160"/>
              <a:ext cx="266400" cy="266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51040" y="6707160"/>
              <a:ext cx="266760" cy="26676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1560" y="620100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9440" y="6602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5720" y="649836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UT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76320" y="0"/>
            <a:ext cx="9639000" cy="7203960"/>
            <a:chOff x="76320" y="0"/>
            <a:chExt cx="9639000" cy="7203960"/>
          </a:xfrm>
        </p:grpSpPr>
        <p:pic>
          <p:nvPicPr>
            <p:cNvPr id="486" name="" descr=""/>
            <p:cNvPicPr/>
            <p:nvPr/>
          </p:nvPicPr>
          <p:blipFill>
            <a:blip r:embed="rId27">
              <a:grayscl/>
            </a:blip>
            <a:stretch/>
          </p:blipFill>
          <p:spPr>
            <a:xfrm>
              <a:off x="76320" y="0"/>
              <a:ext cx="7725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9759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1440" y="559800"/>
              <a:ext cx="8740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4487400" y="79920"/>
              <a:ext cx="52279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1778400"/>
            <a:ext cx="972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ll’equivalenza dei gameti: l’espressione di un gene non dipende dal sesso del genitore che lo trasme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3464280"/>
            <a:ext cx="97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lusione allelica: in alcuni tipi cellulari viene espresso uno solo dei due alleli, anche se entrambi sono in grado di esprimer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436000"/>
            <a:ext cx="92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ha una emizigosi funzionale:linfociti B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munoglobuline, geni dei recettori olfattivi nei neuroni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sa e’ l’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6320" y="0"/>
            <a:ext cx="9676800" cy="7203960"/>
            <a:chOff x="76320" y="0"/>
            <a:chExt cx="9676800" cy="7203960"/>
          </a:xfrm>
        </p:grpSpPr>
        <p:pic>
          <p:nvPicPr>
            <p:cNvPr id="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54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853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4320" y="559800"/>
              <a:ext cx="877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504680" y="79920"/>
              <a:ext cx="52484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52280" y="199656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6 La caratterizzazione molecolare delle mutazioni nella regione PWS/AS permette di chiarire l’organizzazione del centro di imprinting (IC) e di proporre un mod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3886200"/>
            <a:ext cx="2649600" cy="3808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RN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3886200"/>
            <a:ext cx="30348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3886200"/>
            <a:ext cx="3031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3886200"/>
            <a:ext cx="3031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43800" y="3886200"/>
            <a:ext cx="30312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3886200"/>
            <a:ext cx="30348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3962520"/>
            <a:ext cx="11350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48720" y="3962520"/>
            <a:ext cx="121104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24280" y="3886200"/>
            <a:ext cx="1362240" cy="38088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886200"/>
            <a:ext cx="1362240" cy="38088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3886200"/>
            <a:ext cx="303480" cy="380880"/>
          </a:xfrm>
          <a:prstGeom prst="can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9560" y="4478400"/>
            <a:ext cx="942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NRPN: Small Nuclear ribonuclearProtein N: e’ espresso solo 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mosoma paterno, composto da 10 es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" y="560952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capitoliamo: l’imprinting implica l’acquisizione di segnali specifici della linea germinale, inducendo attivita’ differenziale degli alleli parentali. Errori nella linea germinale impedirebbero l’acquisizione dell’epigenotipo corr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zzazione molec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76320" y="0"/>
            <a:ext cx="9651600" cy="7364880"/>
            <a:chOff x="76320" y="0"/>
            <a:chExt cx="9651600" cy="7364880"/>
          </a:xfrm>
        </p:grpSpPr>
        <p:pic>
          <p:nvPicPr>
            <p:cNvPr id="50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364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97812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2160" y="572760"/>
              <a:ext cx="875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4493160" y="81720"/>
              <a:ext cx="523476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420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2860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1905120"/>
            <a:ext cx="144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38480" y="1905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190512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1008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1905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152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438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010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2296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4582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6868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915400" y="1905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14600" y="2209680"/>
            <a:ext cx="1295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988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2209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22096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2209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436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722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866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438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724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296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582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8680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91540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4114800"/>
            <a:ext cx="1295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384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411480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00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386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436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0866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152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438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724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010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2296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8680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91540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1952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5268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2668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988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434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26668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386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436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722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3152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724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010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296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8680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915400" y="2666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5288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181480" y="3125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38680" y="3124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436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722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866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438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724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0010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296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4582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68680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9154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4038480"/>
            <a:ext cx="228600" cy="15264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0" y="182880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271080" y="182880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0" y="213372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271080" y="213372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0" y="256536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271080" y="256536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6600" y="3022560"/>
            <a:ext cx="15264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283680" y="3022560"/>
            <a:ext cx="1522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0" y="4038480"/>
            <a:ext cx="15228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271080" y="4038480"/>
            <a:ext cx="152280" cy="15264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00800" y="182880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1828800"/>
            <a:ext cx="10188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375240" y="21337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78640" y="213372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69120" y="25909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572160" y="259092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43560" y="304812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46960" y="304812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37440" y="4032360"/>
            <a:ext cx="228600" cy="152280"/>
          </a:xfrm>
          <a:prstGeom prst="cube">
            <a:avLst>
              <a:gd name="adj" fmla="val 25000"/>
            </a:avLst>
          </a:prstGeom>
          <a:solidFill>
            <a:srgbClr val="efff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40480" y="4032360"/>
            <a:ext cx="101520" cy="152280"/>
          </a:xfrm>
          <a:prstGeom prst="cube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55440" y="1537920"/>
            <a:ext cx="599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D1B   BD1B*  BD1A  BD2   BD3      E1   E2      E3    E4    E5    E6    E7    E8    E9    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70240" y="109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3429000" y="38088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49280" y="109008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7238880" y="-609480"/>
            <a:ext cx="75960" cy="4191120"/>
          </a:xfrm>
          <a:custGeom>
            <a:avLst/>
            <a:gdLst>
              <a:gd name="textAreaLeft" fmla="*/ 22320 w 75960"/>
              <a:gd name="textAreaRight" fmla="*/ 76320 w 7596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74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5740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2408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6376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6376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9576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9576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274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2740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670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86396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6396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0364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0364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3412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4120" y="411480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28080" y="3809880"/>
            <a:ext cx="0" cy="304920"/>
          </a:xfrm>
          <a:prstGeom prst="line">
            <a:avLst/>
          </a:prstGeom>
          <a:ln w="28440">
            <a:solidFill>
              <a:srgbClr val="11fd2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12808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7760" y="3344040"/>
            <a:ext cx="48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vello metilazione : Metilati </a:t>
            </a:r>
            <a:r>
              <a:rPr b="1" lang="en-US" sz="1800" spc="-1" strike="noStrike">
                <a:solidFill>
                  <a:srgbClr val="11fd29"/>
                </a:solidFill>
                <a:latin typeface="Comic Sans MS"/>
              </a:rPr>
              <a:t>Non metil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28120" y="380052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2c02"/>
                </a:solidFill>
                <a:latin typeface="Comic Sans MS"/>
              </a:rPr>
              <a:t>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45000" y="4038480"/>
            <a:ext cx="101520" cy="1526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95680" y="4876920"/>
            <a:ext cx="50292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038120" y="5029200"/>
            <a:ext cx="1143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495320" y="5181480"/>
            <a:ext cx="1143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047760" y="52927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428640" y="54100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428640" y="5499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962160" y="557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962160" y="565164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266720" y="574056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7276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12000" y="191916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B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25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06320" y="4128840"/>
            <a:ext cx="4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91320" y="2057400"/>
            <a:ext cx="990360" cy="304920"/>
          </a:xfrm>
          <a:prstGeom prst="bracketPair">
            <a:avLst>
              <a:gd name="adj" fmla="val 1712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3760" y="462960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06960" y="485820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76760" y="501048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WS-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2280" y="1596600"/>
            <a:ext cx="17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ttura dei trascri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320" y="3743640"/>
            <a:ext cx="172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ttura geno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-11520" y="460548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3440" y="6210360"/>
            <a:ext cx="962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ell’esone1 impedirebbero se ereditate attraverso il padre il passaggio da mat&gt;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4480" y="6800400"/>
            <a:ext cx="96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i BD se ereditate attraverso madre impedirebbero il passaggio da pat&gt;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254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tuttura della reg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23720" y="51217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04760" y="53661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66600" y="5239080"/>
            <a:ext cx="5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89640" y="5404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40880" y="55184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27360" y="558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29120" y="58485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S-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76320" y="0"/>
            <a:ext cx="9664200" cy="7364880"/>
            <a:chOff x="76320" y="0"/>
            <a:chExt cx="9664200" cy="7364880"/>
          </a:xfrm>
        </p:grpSpPr>
        <p:pic>
          <p:nvPicPr>
            <p:cNvPr id="6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98244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3240" y="57276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498920" y="81720"/>
              <a:ext cx="524160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56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28600" y="1240200"/>
            <a:ext cx="93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1992 viene riportata un’altra famiglia AS in cui viene documentata l’assenza di delezioni anche nella regione minima e che porta ad escludere la presenza di mutazioni puntiformi recessive nell’eziologia di 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09480"/>
            <a:ext cx="8393400" cy="673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gelman famil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52480" y="233856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233856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146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430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4496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65760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0708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9588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72400" y="29718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245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966160" y="29718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5256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672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43400" y="3429000"/>
            <a:ext cx="228600" cy="2286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483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2620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3580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0080" y="3429000"/>
            <a:ext cx="228600" cy="2286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34290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153280" y="3429000"/>
            <a:ext cx="2286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4640" y="36025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15S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76640" y="40071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52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6244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73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719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8620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769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57840" y="401004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1604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770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5600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02400" y="400536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24960" y="4003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551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5972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7080" y="4008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9176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0726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45388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920440" y="40086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00200" y="2438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2438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76520" y="2743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161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5296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0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87392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067680" y="2743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86200" y="3060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3048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304812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2304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57440" y="29718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96252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32767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9436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94360" y="3276720"/>
            <a:ext cx="939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7088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70880" y="3276720"/>
            <a:ext cx="93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702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00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578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6244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2940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432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25516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610480" y="3276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9640" y="49060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B3(CA)-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91760" y="531036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0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84760" y="53089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824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94240" y="53118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002760" y="53118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920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73320" y="53136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3383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921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279760" y="53118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717880" y="53089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40080" y="53071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02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752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594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0688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08812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6900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935560" y="53118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8640" y="62776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ABRA5(CA)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93560" y="668196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2252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084760" y="668052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842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89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008520" y="6683400"/>
            <a:ext cx="3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9388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75120" y="66852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401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939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797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19680" y="668052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40080" y="667872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70280" y="6683400"/>
            <a:ext cx="3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770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612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706160" y="6683400"/>
            <a:ext cx="31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089200" y="6683400"/>
            <a:ext cx="29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47080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937360" y="6683400"/>
            <a:ext cx="31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76320" y="0"/>
            <a:ext cx="9702360" cy="7364880"/>
            <a:chOff x="76320" y="0"/>
            <a:chExt cx="9702360" cy="7364880"/>
          </a:xfrm>
        </p:grpSpPr>
        <p:pic>
          <p:nvPicPr>
            <p:cNvPr id="8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760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98892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6120" y="57276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516560" y="81720"/>
              <a:ext cx="526212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492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915400" cy="48895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erche’ PWS/AS salta le gener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0" y="0"/>
            <a:ext cx="9753120" cy="7203960"/>
            <a:chOff x="0" y="0"/>
            <a:chExt cx="9753120" cy="7203960"/>
          </a:xfrm>
        </p:grpSpPr>
        <p:pic>
          <p:nvPicPr>
            <p:cNvPr id="82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0" y="0"/>
              <a:ext cx="7815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9230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3760" y="559800"/>
              <a:ext cx="884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4463280" y="79920"/>
              <a:ext cx="52898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93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76320" y="3505320"/>
            <a:ext cx="464796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usione epigenotipo m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nea germinale femmi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0920" y="1386000"/>
            <a:ext cx="93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ell’esone1 impedirebbero se ereditate attraverso il padre il passaggio da mat&gt;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4920" y="2006280"/>
            <a:ext cx="9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tazioni a livello di BD se ereditate attraverso madre impedirebbero il passaggio da pat&gt;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in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82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o di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9520" y="41428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86080" y="413820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s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523880" y="39625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523880" y="3962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00400" y="3962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94240" y="387252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4320" y="436464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8600" y="56386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0040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759480" y="48931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3276360" y="50292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05520" y="3505320"/>
            <a:ext cx="464796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usione epigenotip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nea germinale mas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8672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rin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4495680"/>
            <a:ext cx="160020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o di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8720" y="41428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415280" y="413820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NRP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s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74640" y="43646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57800" y="56386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22960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potesi di funzio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30680" y="2592360"/>
            <a:ext cx="96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sta studiando il secondo attore: la domanda non e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e un epigenotipo controlli i geni, ma come si insta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52280" y="6426360"/>
            <a:ext cx="960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 corretta: non spiega alcune osservazioni nel t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76320" y="0"/>
            <a:ext cx="9710280" cy="7203960"/>
            <a:chOff x="76320" y="0"/>
            <a:chExt cx="9710280" cy="7203960"/>
          </a:xfrm>
        </p:grpSpPr>
        <p:pic>
          <p:nvPicPr>
            <p:cNvPr id="8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83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6840" y="559800"/>
              <a:ext cx="880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4520160" y="79920"/>
              <a:ext cx="52664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28600" y="2471760"/>
            <a:ext cx="96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one 1 potrebbe cancellare il prees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2280" y="3411360"/>
            <a:ext cx="952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D necessario nella linea  XX   per acquisire l’epigenotipo 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4920" y="15573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l top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rnp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’ biallelico nelle linee germ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98360" y="498168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D inattivo  nella linea  XY per acquisire l’epigenotipo p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Nel top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28280" y="6129360"/>
            <a:ext cx="36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lo corret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76320" y="0"/>
            <a:ext cx="9651600" cy="7203960"/>
            <a:chOff x="76320" y="0"/>
            <a:chExt cx="9651600" cy="7203960"/>
          </a:xfrm>
        </p:grpSpPr>
        <p:pic>
          <p:nvPicPr>
            <p:cNvPr id="87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36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9799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2160" y="559800"/>
              <a:ext cx="875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4493160" y="79920"/>
              <a:ext cx="523476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2171880" y="4673520"/>
            <a:ext cx="7596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05040" y="4673520"/>
            <a:ext cx="763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33440" y="467352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00280" y="467352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41240" y="456840"/>
            <a:ext cx="352584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Mod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2013120"/>
            <a:ext cx="762120" cy="380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15000" y="2013120"/>
            <a:ext cx="762120" cy="380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95480" y="2241720"/>
            <a:ext cx="9144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000" y="2241720"/>
            <a:ext cx="11430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77120" y="2241720"/>
            <a:ext cx="9144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1327320"/>
            <a:ext cx="1295280" cy="60948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114800" y="16318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91320" y="1631880"/>
            <a:ext cx="3808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80320" y="241272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46000" y="241272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8240" y="26395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13360" y="2944440"/>
            <a:ext cx="79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67720" y="3336480"/>
            <a:ext cx="81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9440" y="3706560"/>
            <a:ext cx="75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94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4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430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430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9810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810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146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43480" y="4673520"/>
            <a:ext cx="7596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3526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526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02200" y="4673520"/>
            <a:ext cx="7596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1176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1176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743200" y="4902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048120" y="4902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49021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05120" y="4902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14880" y="452124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886200" y="4521240"/>
            <a:ext cx="533520" cy="15238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669">
                <a:moveTo>
                  <a:pt x="3600" y="0"/>
                </a:moveTo>
                <a:arcTo wR="3600" hR="3600" stAng="16200000" swAng="-5400000"/>
                <a:lnTo>
                  <a:pt x="0" y="58069"/>
                </a:lnTo>
                <a:arcTo wR="3600" hR="3600" stAng="10800000" swAng="-5400000"/>
                <a:lnTo>
                  <a:pt x="18000" y="616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972480" y="4673520"/>
            <a:ext cx="7596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505640" y="4673520"/>
            <a:ext cx="763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134040" y="467352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600880" y="467352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4100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100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436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436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816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7816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31520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1520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344080" y="467352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1532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15328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953560" y="4673520"/>
            <a:ext cx="7632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76312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763120" y="5283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128080" y="452124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724960" y="4521240"/>
            <a:ext cx="533520" cy="15238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669">
                <a:moveTo>
                  <a:pt x="3600" y="0"/>
                </a:moveTo>
                <a:arcTo wR="3600" hR="3600" stAng="16200000" swAng="-5400000"/>
                <a:lnTo>
                  <a:pt x="0" y="58069"/>
                </a:lnTo>
                <a:arcTo wR="3600" hR="3600" stAng="10800000" swAng="-5400000"/>
                <a:lnTo>
                  <a:pt x="18000" y="616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34720" y="6066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29000" y="6066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5580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859000" y="6066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253280" y="6066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480440" y="6426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4920" y="4292640"/>
            <a:ext cx="4343400" cy="2743200"/>
          </a:xfrm>
          <a:prstGeom prst="rect">
            <a:avLst/>
          </a:prstGeom>
          <a:noFill/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ea germinale XX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257800" y="4292640"/>
            <a:ext cx="4343400" cy="274320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ea germinale XY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6320" y="0"/>
            <a:ext cx="9664200" cy="7364880"/>
            <a:chOff x="76320" y="0"/>
            <a:chExt cx="9664200" cy="7364880"/>
          </a:xfrm>
        </p:grpSpPr>
        <p:pic>
          <p:nvPicPr>
            <p:cNvPr id="94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981000" y="1260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13240" y="57276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4498920" y="81720"/>
              <a:ext cx="5241600" cy="42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4560" y="7118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amiglia Prader-Wi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95560" y="30942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181160" y="304812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47640" y="304812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09880" y="1746360"/>
            <a:ext cx="66852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86400" y="1746360"/>
            <a:ext cx="66816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00816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95680" y="1816200"/>
            <a:ext cx="10033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7220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0" y="1219320"/>
            <a:ext cx="1136520" cy="20772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11480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79132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80320" y="184104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46000" y="184104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0440" y="184500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1600" y="2149920"/>
            <a:ext cx="56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1560" y="2319840"/>
            <a:ext cx="57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25440" y="2472120"/>
            <a:ext cx="53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7200" y="327672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7200" y="365760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90720" y="327672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90512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0512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467160" y="30942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27672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7672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025880" y="30942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3544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828800" y="3322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8800" y="3322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3856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0988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58400" y="4487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71600" y="4876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40080" y="4516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79840" y="4846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8840" y="39859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05040" y="312408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514600" y="335268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028880" y="5257800"/>
            <a:ext cx="7596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953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49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3808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43280" y="665280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218960" y="50292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1932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057400" y="52578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6696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629080" y="5257800"/>
            <a:ext cx="7596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43828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4671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672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767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52578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4804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2596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2284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33600" y="68029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cato 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743200" y="6781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448240" y="426708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257800" y="449568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57800" y="487692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6960" y="4267080"/>
            <a:ext cx="76320" cy="129564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16520" y="4495680"/>
            <a:ext cx="457200" cy="15264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67640" y="311400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mutazioni dell’ esone1  non cancellano l’imprinting sia in XX che in X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4320" y="4806000"/>
            <a:ext cx="27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X e’ irrilevante dal momento che comunque hanno epigenotipo 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4320" y="652068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Y saran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apaci di convert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442480" y="57484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029200" y="3962520"/>
            <a:ext cx="152388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343400" y="5410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76320" y="0"/>
            <a:ext cx="9600840" cy="7203960"/>
            <a:chOff x="76320" y="0"/>
            <a:chExt cx="9600840" cy="7203960"/>
          </a:xfrm>
        </p:grpSpPr>
        <p:pic>
          <p:nvPicPr>
            <p:cNvPr id="102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9684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8560" y="55980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4470120" y="79920"/>
              <a:ext cx="52070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27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amiglia Ange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33720" y="3094200"/>
            <a:ext cx="7596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81160" y="304812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7640" y="304812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09880" y="1746360"/>
            <a:ext cx="66852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86400" y="1746360"/>
            <a:ext cx="668160" cy="12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00816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95680" y="1816200"/>
            <a:ext cx="10033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72200" y="1816200"/>
            <a:ext cx="80172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72000" y="1219320"/>
            <a:ext cx="1136520" cy="207720"/>
          </a:xfrm>
          <a:prstGeom prst="cube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411480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91320" y="1523880"/>
            <a:ext cx="334800" cy="1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80320" y="1841040"/>
            <a:ext cx="17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-imprint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346000" y="184104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 SNR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80440" y="184500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e passaggi sono necessar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91600" y="2149920"/>
            <a:ext cx="56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lizione : l’esone1 e’ richiesto in entrambe le linee germ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31560" y="2319840"/>
            <a:ext cx="57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attivo e’ richiesto in cis per l’epigenotipo m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5440" y="2472120"/>
            <a:ext cx="53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istino: BD inattivo e’ richiesto per l’epigenotipo pa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7200" y="327672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7200" y="365760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990720" y="365760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4328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67160" y="30942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76720" y="332280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276720" y="370368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025880" y="30942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3856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9880" y="2941560"/>
            <a:ext cx="533520" cy="15242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524240"/>
              <a:gd name="textAreaBottom" fmla="*/ 1498320 h 1524240"/>
            </a:gdLst>
            <a:ahLst/>
            <a:rect l="textAreaLeft" t="textAreaTop" r="textAreaRight" b="textAreaBottom"/>
            <a:pathLst>
              <a:path w="21600" h="61683">
                <a:moveTo>
                  <a:pt x="3600" y="0"/>
                </a:moveTo>
                <a:arcTo wR="3600" hR="3600" stAng="16200000" swAng="-5400000"/>
                <a:lnTo>
                  <a:pt x="0" y="58083"/>
                </a:lnTo>
                <a:arcTo wR="3600" hR="3600" stAng="10800000" swAng="-5400000"/>
                <a:lnTo>
                  <a:pt x="18000" y="61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58400" y="4487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l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371600" y="4876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40080" y="4516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679840" y="4846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2360" y="39859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28880" y="5257800"/>
            <a:ext cx="7596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953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049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3808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9760" y="6652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11480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380880" y="502920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088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057400" y="52578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6696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467160" y="5257800"/>
            <a:ext cx="7632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7672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38480" y="5257800"/>
            <a:ext cx="76320" cy="1295280"/>
          </a:xfrm>
          <a:prstGeom prst="rect">
            <a:avLst/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4804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22596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22840" y="5105520"/>
            <a:ext cx="533160" cy="15238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523880"/>
              <a:gd name="textAreaBottom" fmla="*/ 1497960 h 1523880"/>
            </a:gdLst>
            <a:ahLst/>
            <a:rect l="textAreaLeft" t="textAreaTop" r="textAreaRight" b="textAreaBottom"/>
            <a:pathLst>
              <a:path w="21600" h="61710">
                <a:moveTo>
                  <a:pt x="3600" y="0"/>
                </a:moveTo>
                <a:arcTo wR="3600" hR="3600" stAng="16200000" swAng="-5400000"/>
                <a:lnTo>
                  <a:pt x="0" y="58110"/>
                </a:lnTo>
                <a:arcTo wR="3600" hR="3600" stAng="10800000" swAng="-5400000"/>
                <a:lnTo>
                  <a:pt x="18000" y="61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3600" y="680292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cato ripri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6781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05720" y="311400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 esone1 cancella l’imprinting sia in XX che in X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934320" y="4349520"/>
            <a:ext cx="27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D mutato non ripristina, ma in XY e’ irrilevante perche’ l’epigenotipo e’ cor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934320" y="5774760"/>
            <a:ext cx="26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XX saran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apaci di instaurare l’epigenotipo ma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454000" y="5748480"/>
            <a:ext cx="60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029200" y="3962520"/>
            <a:ext cx="152388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733920" y="51814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717640" y="3124080"/>
            <a:ext cx="7632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30320" y="3352680"/>
            <a:ext cx="457200" cy="152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14600" y="373392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48040" y="370836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3808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705040" y="5257800"/>
            <a:ext cx="763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14600" y="5486400"/>
            <a:ext cx="45720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1460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38280" y="5486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38280" y="5486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60640" y="586728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2c0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19920" y="4267080"/>
            <a:ext cx="75960" cy="12956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829480" y="4876920"/>
            <a:ext cx="457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72280" y="4292640"/>
            <a:ext cx="7596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181480" y="4521240"/>
            <a:ext cx="457200" cy="1522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181480" y="4902120"/>
            <a:ext cx="457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76320" y="0"/>
            <a:ext cx="9727560" cy="7290000"/>
            <a:chOff x="76320" y="0"/>
            <a:chExt cx="9727560" cy="7290000"/>
          </a:xfrm>
        </p:grpSpPr>
        <p:pic>
          <p:nvPicPr>
            <p:cNvPr id="110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94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99504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8280" y="566640"/>
              <a:ext cx="8821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 txBox="1"/>
            <p:nvPr/>
          </p:nvSpPr>
          <p:spPr>
            <a:xfrm>
              <a:off x="4528080" y="81000"/>
              <a:ext cx="5275800" cy="41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4560" y="7043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7840" y="4613400"/>
            <a:ext cx="95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: termine coniato negli anni’30 da Loren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indicare l’insorgere di un comportamento a seguito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perienze vissute in momenti critici dello svil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2612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do l’esclusione allelica e’ applicata selettivamente all’allele potenzialmente funzionale di un genitore si parla d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mprinting genomi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3344400"/>
            <a:ext cx="94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pressione differenziata di un gene legata all’origine par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finizion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320" y="0"/>
            <a:ext cx="9664200" cy="7203960"/>
            <a:chOff x="76320" y="0"/>
            <a:chExt cx="9664200" cy="7203960"/>
          </a:xfrm>
        </p:grpSpPr>
        <p:pic>
          <p:nvPicPr>
            <p:cNvPr id="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36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9824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3240" y="559800"/>
              <a:ext cx="8763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498920" y="79920"/>
              <a:ext cx="52416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857960"/>
            <a:ext cx="967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redita’ mitocondriale non segue il principio dell’equivalenza dei gameti, ma in questo caso non si parla di imprinting: i gameti sono effettivamente non equivalenti in termini di contenuto genico perche’ il gamete maschile non contribuisce alla dotazione di mitocondri dell’embr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4467600"/>
            <a:ext cx="95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redita’ legata al sesso non segue  il principio dell’equivalenza dei gameti, ma di nuovo i gameti sono  effettivamente non equivalenti perche’ i cromosomi sessuali non sono del tutto omologhi. L’espressione di un fenotipo dovuto a un locus localizzato sui cromosomi sessuali dipende dal sesso della proge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sa non e’ 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320" y="0"/>
            <a:ext cx="9587880" cy="7203960"/>
            <a:chOff x="76320" y="0"/>
            <a:chExt cx="9587880" cy="7203960"/>
          </a:xfrm>
        </p:grpSpPr>
        <p:pic>
          <p:nvPicPr>
            <p:cNvPr id="7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9666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7480" y="55980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464000" y="79920"/>
              <a:ext cx="52002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1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5440" y="3607200"/>
            <a:ext cx="791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IGENOTIPO: informazione ereditabile in grado di influire sul fenotipo senza che vi sia cambiamento di sequenza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349600"/>
            <a:ext cx="94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meccanismo epigenetico meglio conosciuto e’ la metilazione del DNA. La metilazione di una regione genomica viene considerata un indicatore di inattiv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953000"/>
            <a:ext cx="96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 genomico: espressione differenziata di un  gene perfettamente funzionale, legata all’origine parentale, indipendente dal sesso della prog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finizione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600200" cy="1395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6320" y="0"/>
            <a:ext cx="9587880" cy="7203960"/>
            <a:chOff x="76320" y="0"/>
            <a:chExt cx="9587880" cy="7203960"/>
          </a:xfrm>
        </p:grpSpPr>
        <p:pic>
          <p:nvPicPr>
            <p:cNvPr id="8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82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666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7480" y="55980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464000" y="79920"/>
              <a:ext cx="520020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31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0" y="1515600"/>
            <a:ext cx="74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nattivazione della X nei mammiferi e’ una forma di imprint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080" y="2715120"/>
            <a:ext cx="95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mbrebbe di no:e’ una modalita’ di regolazione che si instaura nelle cellule  dell’embrione ed e’ casua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051520"/>
            <a:ext cx="937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 genomico: espressione differenziata di un gene perfettamente funzionale legata all’origine parentale, indipendente dal sesso della progenie, che puo’ essere limitata nello spazio e nel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5960" y="323388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80844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 trofoblasto viene inattivato preferenzialmente l’allele  ma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efinizione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1000"/>
            <a:ext cx="1143000" cy="11188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6320" y="0"/>
            <a:ext cx="9676800" cy="7203960"/>
            <a:chOff x="76320" y="0"/>
            <a:chExt cx="9676800" cy="7203960"/>
          </a:xfrm>
        </p:grpSpPr>
        <p:pic>
          <p:nvPicPr>
            <p:cNvPr id="10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54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853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4320" y="559800"/>
              <a:ext cx="8775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504680" y="79920"/>
              <a:ext cx="524844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456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5960" y="4143600"/>
            <a:ext cx="83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perimenti di trasferimento dei pronuclei nei to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040" y="475308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rti triploidi, mola idatiforme e teratomi ne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20" y="5362920"/>
            <a:ext cx="38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omie unipar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440" y="6064560"/>
            <a:ext cx="86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e espressione del DNA nel topo trans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2363040"/>
            <a:ext cx="89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azioni che provocano fenotipi differenti a seco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 genitore d’origine o che sembrano essere ered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 modalita’ diverse a seconda del genitor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mette il l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86800" y="67057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sservazioni che suggeriscono l’esistenza dell’im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6320" y="0"/>
            <a:ext cx="9714960" cy="7203960"/>
            <a:chOff x="76320" y="0"/>
            <a:chExt cx="9714960" cy="7203960"/>
          </a:xfrm>
        </p:grpSpPr>
        <p:pic>
          <p:nvPicPr>
            <p:cNvPr id="1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868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943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7200" y="559800"/>
              <a:ext cx="8809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522320" y="79920"/>
              <a:ext cx="526896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11320" cy="37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087800" y="1359000"/>
            <a:ext cx="3151080" cy="3746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80880" y="1341360"/>
            <a:ext cx="7390080" cy="4145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84080" y="5562720"/>
            <a:ext cx="86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arattere viene espresso quando ereditato dal p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7400" y="6240600"/>
            <a:ext cx="41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allele materno e’ 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mprinting ma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320" y="0"/>
            <a:ext cx="9702360" cy="7203960"/>
            <a:chOff x="76320" y="0"/>
            <a:chExt cx="9702360" cy="7203960"/>
          </a:xfrm>
        </p:grpSpPr>
        <p:pic>
          <p:nvPicPr>
            <p:cNvPr id="128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0"/>
              <a:ext cx="7776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9903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6120" y="559800"/>
              <a:ext cx="8798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516560" y="79920"/>
              <a:ext cx="52621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9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546200"/>
            <a:ext cx="8534160" cy="4986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0440" y="5502240"/>
            <a:ext cx="93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netranza elevata quando il locus e’ ereditato dalla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93280" y="5943600"/>
            <a:ext cx="35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ele paterno si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mprinting pa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320" y="0"/>
            <a:ext cx="9689760" cy="7203960"/>
            <a:chOff x="76320" y="0"/>
            <a:chExt cx="9689760" cy="7203960"/>
          </a:xfrm>
        </p:grpSpPr>
        <p:pic>
          <p:nvPicPr>
            <p:cNvPr id="13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765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8712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5400" y="559800"/>
              <a:ext cx="8786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510800" y="79920"/>
              <a:ext cx="52552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5T08:13:56Z</cp:lastPrinted>
  <dcterms:modified xsi:type="dcterms:W3CDTF">2005-01-05T08:53:12Z</dcterms:modified>
  <cp:revision>789</cp:revision>
  <dc:subject/>
  <dc:title>Geen diatitel</dc:title>
</cp:coreProperties>
</file>